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2A5A-511D-470E-ACBB-D3F72B091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8B5C-B271-4E61-852C-0A3636092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B5D6-ECE4-4C0A-B9CD-DA426CCB1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CC49-CF41-4542-9574-EAEE544B4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97AD4-EC27-495E-B536-7F409FD89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8E6D7-90C7-4BA1-B39F-4DF62B2CB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28435-19D0-4D86-86B7-311010C23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6FB88-C1B0-454E-A61F-3B3A33299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F0F40-1D1E-41BA-99A2-D66BBF768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179FC-ECEF-41AC-B14A-8874387FA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3E04D-AF36-4E39-B034-F7654121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2E76-893E-4048-BA80-B3144669A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875F8-20CA-45B0-B9D2-7B251306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DDB1D-B01A-44A5-A40D-04FED300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C29FA-380A-49D3-A0EA-03A8C484B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E66A0-25C6-4893-9788-752CD8A20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A2C3A-CDE3-4D80-A1B6-74E62C0F5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C929-1BA8-4231-B8CB-4D092F51E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E659-0E01-4C78-AFDB-9AB64E91E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40E9-43D0-4BF4-A729-17F32FC34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B9EF-99CB-4EFE-AAA5-0033B42D8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4289-726C-4810-A053-DD956B54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6ECF-CD68-461D-9416-CD00A756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2CB8-EB79-44F7-9DBB-17CC8570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BB884-9759-49A9-986F-7AB7C2B7FEF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8CC5B-3B6A-4A45-AFB3-0AFFE56CEE5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Квадратные неравенства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1928520"/>
            <a:ext cx="678168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облемный вопрос: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де в жизни используются неравенства?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Автор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Группа квадратных неравенст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Хотим начать со слов персидско-таджикского поэта Рудаки: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 “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С тех пор как существует мирозданье,</a:t>
            </a:r>
            <a:br>
              <a:rPr sz="3200"/>
            </a:b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Такого нет, кто б не нуждался в знанье.</a:t>
            </a:r>
            <a:br>
              <a:rPr sz="3200"/>
            </a:b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Какой мы ни возьмем язык и век, </a:t>
            </a:r>
            <a:br>
              <a:rPr sz="3200"/>
            </a:b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сегда стремится к знанью человек 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Мотивация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 находит ли применение эти неравенства в окружающем нас мире?! А может это просто прихоть математиков?! Наверно нет! Ведь всякое явление можно описать с помощью функции, а умения решать неравенства позволяют ответить на вопрос, при каких значениях аргумента эта функция положительна, а при каких отрицатель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пределение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837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f33cc"/>
                </a:solidFill>
                <a:latin typeface="Arial"/>
              </a:rPr>
              <a:t>Неравенства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вида 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ax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2 + 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bx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 + 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 &gt; 0, где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≠0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, b, c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– некоторые числа, называются </a:t>
            </a:r>
            <a:r>
              <a:rPr b="0" lang="ru-RU" sz="3600" spc="-1" strike="noStrike">
                <a:solidFill>
                  <a:srgbClr val="ff33cc"/>
                </a:solidFill>
                <a:latin typeface="Arial"/>
              </a:rPr>
              <a:t>квадратными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Arial Black"/>
              </a:rPr>
              <a:t>Алгоритм решения неравенств второй степени с одной переменной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557360"/>
            <a:ext cx="76946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505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риведите неравенство к вид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2+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+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gt;0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2+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+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5050"/>
                </a:solidFill>
                <a:latin typeface="Arial"/>
              </a:rPr>
              <a:t>2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Рассмотрите функцию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=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2+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+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ff505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Определите направление ветв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5050"/>
                </a:solidFill>
                <a:latin typeface="Arial"/>
              </a:rPr>
              <a:t>4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Найдите точки пересечения параболы с осью абсцисс (для них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=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; х1и х2 найдите, решая уравнение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2+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+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5050"/>
                </a:solidFill>
                <a:latin typeface="Arial"/>
              </a:rPr>
              <a:t>5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Схематически постройте график функци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=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2+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+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5050"/>
                </a:solidFill>
                <a:latin typeface="Arial"/>
              </a:rPr>
              <a:t>6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Выделите часть параболы, для которой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&gt;0 (y&lt;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5050"/>
                </a:solidFill>
                <a:latin typeface="Arial Black"/>
              </a:rPr>
              <a:t>Пример решения неравенства: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1.5х2+9х-2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&lt;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Рассмотрим функцию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=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5х2+9х-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Графиком функции является парабола, ветви которой направлены ввер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4. 5х2+9х-2=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х1=-2; х2=1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/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rcRect l="24506" t="0" r="0" b="18268"/>
          <a:stretch/>
        </p:blipFill>
        <p:spPr>
          <a:xfrm>
            <a:off x="3924360" y="5261040"/>
            <a:ext cx="295128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142560"/>
            <a:ext cx="7715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 Black"/>
              </a:rPr>
              <a:t>Теперь хотим рассказать где они применяются.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38080" y="642600"/>
            <a:ext cx="830592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пример, есть бедные люди и богаты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 социальное неравенств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дним на работе платят меньш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ругим больш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нашем классе 5 мальчиков и 20 девоче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ять же получается неравенство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вочек больше чем мальчи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пользуются в магазине, например когда взвешивают что-нибуд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Рисунок 3" descr="рр.jpg"/>
          <p:cNvPicPr/>
          <p:nvPr/>
        </p:nvPicPr>
        <p:blipFill>
          <a:blip r:embed="rId1"/>
          <a:stretch/>
        </p:blipFill>
        <p:spPr>
          <a:xfrm>
            <a:off x="6429240" y="1071720"/>
            <a:ext cx="204660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4" descr="м и д.bmp"/>
          <p:cNvPicPr/>
          <p:nvPr/>
        </p:nvPicPr>
        <p:blipFill>
          <a:blip r:embed="rId2"/>
          <a:stretch/>
        </p:blipFill>
        <p:spPr>
          <a:xfrm>
            <a:off x="7143840" y="2928960"/>
            <a:ext cx="1755720" cy="159048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6" descr="весы.jpg"/>
          <p:cNvPicPr/>
          <p:nvPr/>
        </p:nvPicPr>
        <p:blipFill>
          <a:blip r:embed="rId3"/>
          <a:stretch/>
        </p:blipFill>
        <p:spPr>
          <a:xfrm>
            <a:off x="3143160" y="5143680"/>
            <a:ext cx="1952640" cy="154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7720" y="285480"/>
            <a:ext cx="8007480" cy="58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Наш вывод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ы получили, что неравенства в нашей жизни присутствуют везде – на экране телевизора, в литературе, на работе, в магазинах, в поездах и самолетах,  в сфере досуга, при организации обучения детей, на автострадах и городских улицах, в жилых кварталах и дачных поселках, в семьях, на всех уровнях отношений с окружающими людьми, почти в любом общении. И от него никуда не деть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4" descr="math"/>
          <p:cNvPicPr/>
          <p:nvPr/>
        </p:nvPicPr>
        <p:blipFill>
          <a:blip r:embed="rId1"/>
          <a:stretch/>
        </p:blipFill>
        <p:spPr>
          <a:xfrm>
            <a:off x="1692360" y="531720"/>
            <a:ext cx="590400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2T19:10:12Z</dcterms:created>
  <dc:creator>Елена</dc:creator>
  <dc:description/>
  <dc:language>en-US</dc:language>
  <cp:lastModifiedBy>Nicolai</cp:lastModifiedBy>
  <dcterms:modified xsi:type="dcterms:W3CDTF">2011-06-09T11:56:47Z</dcterms:modified>
  <cp:revision>11</cp:revision>
  <dc:subject/>
  <dc:title>Квадратные неравенства</dc:title>
</cp:coreProperties>
</file>